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3B53-100F-4472-ADEC-C55D59545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A866-2FD3-4A94-B91C-B995AA82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4771-EE60-4B7E-98C6-2DB2CBB0E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D6FF-EEB2-49F8-8AA4-C19B07D4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29B0-2F4D-4768-B907-281F91E6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4C82-38D8-4D84-8741-5A66D395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3FFF-F357-4E90-8BF0-C15B841D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61F9-8FAE-48E1-9AC4-B81C8BFC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5EE0-BF2B-4D71-8347-86D89EBC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790E-9490-4448-9A6E-3D795D49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A6A8-5F4A-4DA5-A152-F1E99410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BCD7-7AA1-4067-B5B1-101360DE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ED40-66D0-4B91-AF12-3982E8AD7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68360" y="1268280"/>
            <a:ext cx="828180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„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Interreg IVA” = ETE 2007-2013 elvárás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legalább 1 határon túli part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novatív, életképes/fenntartható projekt öt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sélyegyenlőség (legalább 2 intézked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nntartható fejlődés (legalább 3 intézked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Bilingualism (HU-SK nyelvek használ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özös fejlesztés, végrehajtás, menedzsment és finanszírozás (legalább 2 alkalmazá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Vezető partner el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250920" y="1052640"/>
            <a:ext cx="842472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További elvár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jekt elképzelés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inanszírozás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artnerség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delegálása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eális költségvetés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dikátorok partner és projekt szinten– kimenet (rövidtávú) és eredmény (rövidtávú) mutató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rchiválás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4" name=""/>
          <p:cNvGraphicFramePr/>
          <p:nvPr/>
        </p:nvGraphicFramePr>
        <p:xfrm>
          <a:off x="395280" y="2943360"/>
          <a:ext cx="8280360" cy="327312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657080"/>
                <a:gridCol w="1656000"/>
                <a:gridCol w="1655640"/>
              </a:tblGrid>
              <a:tr h="110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elős szervezet/ szemé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őker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me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enőrzés formá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...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1840680" y="1270080"/>
            <a:ext cx="52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Minőségi tervezés = Good „</a:t>
            </a:r>
            <a:r>
              <a:rPr b="1" lang="sk-SK" sz="1800" spc="-1" strike="noStrike" u="sng">
                <a:solidFill>
                  <a:srgbClr val="ff3300"/>
                </a:solidFill>
                <a:uFillTx/>
                <a:latin typeface="Arial"/>
              </a:rPr>
              <a:t>time</a:t>
            </a: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“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468360" y="981000"/>
            <a:ext cx="8281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Mire vigyázzunk a költségvetés tervezésénél</a:t>
            </a: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an jogos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.3-7.5 sorok összege nem haladhatja meg az adott partner személyi költségeinek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ámogatási arány megfelelő meghatározása (állami támogatás?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420920"/>
            <a:ext cx="828180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Állami támogatás (state aid)</a:t>
            </a: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A Közös Szakmai Titkárság direkt módon nem nyújt információkat a pályázott tevékenységek állami támogatás megvizsgálásának szempontjából!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érjük keressé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Zsanett Katalin  (HU, ENG, 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atalin.zsanett.magyar@nfu.gov.h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De előtte...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anulmányozzák át a PÁLYÁZATI ÚTMUTATÓ-ban feltüntetett jogo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evékenységek listáját és hozzájuk rendelt jogcíme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beküldendő dokumentumok a következők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Vezető Partner nyilatkoza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a nyomtatvány elérhető magyar VP-nek magyarul, szlovák VP-nek szlovákul) - nyomtatva, törvényes képviselő által aláírva és lepecsétel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cc0000"/>
                </a:solidFill>
                <a:latin typeface="Arial"/>
              </a:rPr>
              <a:t>Partnerségi nyilatkoz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az összes támogatásban részesülő partner törvényes képviselője által aláírva) -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yomtatva, törvényes képviselő által aláírva és lepecséte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. melléklet -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mennyiben a partnerek az együttműködési kritériumok közül a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„Közös fejlesztés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. melléklet - A projekt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fenntarthatóságá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biztosító intézkedések (a formátum adot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 melléklet - Az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esélyegyenlősége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biztosító intézkedések (a formátum adot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llék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llék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3270600" y="105264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Értékelés men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412760" y="30924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8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2423160" y="2852640"/>
            <a:ext cx="386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öszönöm figyelmük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usk-cbc.eu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7:09:49Z</dcterms:created>
  <dc:creator>TorokZsolt</dc:creator>
  <dc:description/>
  <dc:language>en-US</dc:language>
  <cp:lastModifiedBy>TorokZsolt</cp:lastModifiedBy>
  <dcterms:modified xsi:type="dcterms:W3CDTF">2011-01-26T13:34:19Z</dcterms:modified>
  <cp:revision>117</cp:revision>
  <dc:subject/>
  <dc:title>1. dia</dc:title>
</cp:coreProperties>
</file>